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9DB0-7421-4F02-93E9-4B0E544148F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гра в Голь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Игра в Голь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лон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Эталон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ставниче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Наставниче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опросах 1-4 проранжируйте ответы (цифрами 1,2,3...) по степени их значимости для Ва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Главная задача руководи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ять сотрудников, указывать путь развития и цел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ть хороший климат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ь примером для сотруд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вать четкие и ясные приказы, следить за их ис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ть профессиональный рост своих подчине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жать общее мнение коллектива и находить компромиссные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Что самое важное в работе коллекти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ние высоким стандартам, установленным руковод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, точность исполнения указаний руко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рженность общей цели, четкое видение целей и задач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ая сплоченность команды,  дружеские отношения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ность решений с коллективом, общая ответственность за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ование развития подчиненных за счет выявления сильных и слабых сторо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чиненные долж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 исполнять у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овать в формировани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иться в комфортной дружеской атмосф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свои сильные стороны, расти профессион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ть конечную цель и смысл выполняемой работы, ощущать свою соприча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тельно работать, ориентируясь на руководителя как на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ы хотите, чтобы подчиненные видели в Ва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ка,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а, товарищ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для подраж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рока, прови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го среди рав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опросе 5 выберите наиболее близкий Вам вариант от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ой девиз Вам ближ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за мн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йте, что я вам веле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прежде вс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ы как дум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делайте как 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вот тако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просах 1-4 проранжируйте ответы (цифрами 1,2,3...) по степени их значимости для Вас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Главная задача руководител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авлять сотрудников, указывать путь развития и цели организ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ивать хороший климат в коллектив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ть примером для сотрудник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давать четкие и ясные приказы, следить за их исполнени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ть профессиональный рост своих подчинен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ражать общее мнение коллектива и находить компромиссные реш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Что самое важное в работе коллекти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едование высоким стандартам, установленным руководств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, точность исполнения указаний руководител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ерженность общей цели, четкое видение целей и задач организ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Хорошая сплоченность команды,  дружеские отношения в коллектив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ованность решений с коллективом, общая ответственность за результа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мулирование развития подчиненных за счет выявления сильных и слабых сторон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Подчиненные должн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чно исполнять указ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вовать в формировании реш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ходиться в комфортной дружеской атмосфер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ть свои сильные стороны, расти профессиональ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еть конечную цель и смысл выполняемой работы, ощущать свою сопричастнос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рательно работать, ориентируясь на руководителя как на приме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Вы хотите, чтобы подчиненные видели в Вас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ставника, учител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а, товарищ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чальник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мер для подраж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рока, провидц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ого среди рав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просе 5 выберите наиболее близкий Вам вариант ответ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Какой девиз Вам ближ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за мной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полняйте, что я вам велел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юди прежде всего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вы как думает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теперь делайте как я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пробуйте вот такой вариан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йте несколькими стилям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владейте несколькими стилями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и управления и климат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и управления и климат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стилей управления – 6  путей к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ждающий или диктатор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ите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ло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 стилей управления – 6  путей к ц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ритет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е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мократ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лон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ставн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сотрудников по отношению к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внутрикорпоративный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щущение людей, что их работа справедливо оценивается и вознагражд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е понимание сотрудниками стоящих перед компанией задач и ее це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анность общим целям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имат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бк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 сотрудников по отношению к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ень внутрикорпоративный стандар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щущение людей, что их работа справедливо оценивается и вознаграждает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сное понимание сотрудниками стоящих перед компанией задач и ее ценнос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анность общим целям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управления и климат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ь управления и климат в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нуждающий или диктатор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ритет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вторитет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тече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Отече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мократич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Демократич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EC61-0404-4F25-8F7B-D2566FE3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E5F5-560F-4369-80DD-743863A0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2C1A-F1E8-45A3-9BCA-FD171583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CCC-5D8B-4D5A-BCC9-33BF91C0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ED97-7E71-4693-B21A-A6D56DF2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5B38-7FE8-48EB-9741-E741BB9E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8099-D0CE-4FC6-AFC9-EAD646AD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83A6-FDB5-40C3-860E-443C6E75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2C9D-791B-4B15-AA55-05CCA922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B9AA-E86A-4D75-BF79-6703F479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9CF5-0E1D-403F-9CCB-A9658919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EB7-FEEA-4265-9213-3F74D692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208A-827C-40BC-A808-961A977A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CE2D-4ECE-4839-A587-A681438A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7D0F-7642-453E-91DB-49FDB05A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15FB-9992-4595-9868-D12B9911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DE40-7954-4D43-B739-A292E2BD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3FC-F5D5-4794-8FAC-C32EF6CA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F61-4E37-42CB-90A3-6A15408F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3F8-06D3-4D20-9B9B-C38F2E16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75D-E2BF-4AC8-8589-87A583E9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810-D290-414E-B854-4F8F1903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60CB-F3D0-491D-8E7C-67DF51F4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403-F855-446A-8BA1-EB75DA78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6452-68EE-4888-99EC-EE7E304917D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FFFB-E9C5-42EC-9757-C9566819A59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lltones.ru/logo/831888.html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alltones.ru/logo/831904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ltones.ru/logo/831904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852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Игра в Гольф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55600"/>
            <a:ext cx="640080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Гольф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616200"/>
            <a:ext cx="4000320" cy="274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je3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616200"/>
            <a:ext cx="3786120" cy="28576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Эталон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требует от людей высоких дост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лай, как я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ость, ориентация на результат, инициатив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бходимость быстро добиться успеха при наличии квалифицированной коман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ица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Наставнически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готовит подчиненных к будущим свершения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пробуй та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ощь другим, сопереживание, самоконтр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бходимость помочь людям повысить эффективность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В вопросах 1-4 проранжируйте ответы (цифрами 1,2,3...) по степени их значимости для Вас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1. Главная задача руководителя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правлять сотрудников, указывать путь развития и цели организации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оддерживать хороший климат в коллектив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Быть примером для сотрудников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Отдавать четкие и ясные приказы, следить за их исполнением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Обеспечивать профессиональный рост своих подчиненных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ражать общее мнение коллектива и находить компромиссные реше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2. Что самое важное в работе коллектива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ледование высоким стандартам, установленным руководством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исциплина, точность исполнения указаний руководител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иверженность общей цели, четкое видение целей и задач организации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Хорошая сплоченность команды,  дружеские отношения в коллектив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огласованность решений с коллективом, общая ответственность за результат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тимулирование развития подчиненных за счет выявления сильных и слабых сторон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3. Подчиненные должны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Точно исполнять указа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Участвовать в формировании реше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ходиться в комфортной дружеской атмосфер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Развивать свои сильные стороны, расти профессионально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идеть конечную цель и смысл выполняемой работы, ощущать свою сопричастность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тарательно работать, ориентируясь на руководителя как на пример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4. Вы хотите, чтобы подчиненные видели в Вас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ставника, учител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руга, товарищ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чальник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имер для подража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орока, провидц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ервого среди равных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В вопросе 5 выберите наиболее близкий Вам вариант ответа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5. Какой девиз Вам ближе?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се за мной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полняйте, что я вам велел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Люди прежде всего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А вы как думаете?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А теперь делайте как я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опробуйте вот такой вариант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владейте несколькими стилями!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je3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404640"/>
            <a:ext cx="4537080" cy="21607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тили управления и климат организаци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6 стилей управления – 6  путей к цел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итет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е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мократ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лон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авн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лимат организац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бк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ственность сотрудников по отношению к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вень внутрикорпоративный стандар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щущение людей, что их работа справедливо оценивается и вознагражд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сное понимание сотрудниками стоящих перед компанией задач и ее цен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анность общим целям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тиль управления и климат в организаци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773360"/>
          <a:ext cx="8229600" cy="44449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и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нуждающ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торитет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е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мократич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ло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тавн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бк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ндар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аграж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с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и и ц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Принуждающий или диктаторский стиль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700280"/>
          <a:ext cx="8229600" cy="539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требует беспрекословного повинов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лай, как я сказал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иентация на достижения, инициатива, самоконтр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зис, необходимость реорганизации, работа с трудными подчиненны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ица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Авторитет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мобилизует подчиненных на достижение ц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и за мной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веренность в себе, сопереживание, инновацион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форма, требующая нового подхода, необходимость задать четкое направ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льнейшее 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течески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создает атмосферу мира и соглас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авное- люди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переживание, выстраивание  связей,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лаживание трений в команде, мотивация людей в моменты стрес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Демократич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600" cy="573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вовлекает всех в работу и добивается консенсу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чу узнать ваше мн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трудничество, командная работа,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влечение людей к участию в проекте, достижение консенсуса, мотивация звез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5:13:29Z</dcterms:created>
  <dc:creator>anzhela</dc:creator>
  <dc:description/>
  <dc:language>en-US</dc:language>
  <cp:lastModifiedBy>LEGION</cp:lastModifiedBy>
  <dcterms:modified xsi:type="dcterms:W3CDTF">2016-01-11T10:04:26Z</dcterms:modified>
  <cp:revision>5</cp:revision>
  <dc:subject/>
  <dc:title>Слайд 1</dc:title>
</cp:coreProperties>
</file>